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232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98880" y="657828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2D32B6A0-FFCE-4433-9B28-C890F63BCAB5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6 I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700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68880" y="6591240"/>
            <a:ext cx="3886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279298BB-1B3D-41E8-99E9-908E5585EF49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6 I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a6a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6a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6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6a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a6a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610000"/>
            <a:ext cx="4549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2487600"/>
            <a:ext cx="5629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03640" y="2297160"/>
            <a:ext cx="4535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0040" y="2281320"/>
            <a:ext cx="8683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6:30:17Z</dcterms:created>
  <dc:creator>Michael Cotter</dc:creator>
  <dc:description/>
  <dc:language>en-US</dc:language>
  <cp:lastModifiedBy>sthalliwellp</cp:lastModifiedBy>
  <cp:lastPrinted>2006-03-14T10:03:04Z</cp:lastPrinted>
  <dcterms:modified xsi:type="dcterms:W3CDTF">2006-10-17T11:04:08Z</dcterms:modified>
  <cp:revision>21</cp:revision>
  <dc:subject/>
  <dc:title>No Slide Title</dc:title>
</cp:coreProperties>
</file>